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11683"/>
        <c:axId val="69021592"/>
      </c:barChart>
      <c:catAx>
        <c:axId val="93011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21592"/>
        <c:crosses val="autoZero"/>
        <c:auto val="1"/>
        <c:lblAlgn val="ctr"/>
        <c:lblOffset val="100"/>
        <c:noMultiLvlLbl val="0"/>
      </c:catAx>
      <c:valAx>
        <c:axId val="69021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11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996-7230-4343-8238-B8A19F85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C3C-DA0D-43E7-A9C8-ECC51D42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150-CA3D-4992-96EA-D87B0F1F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2A0-A55A-40EE-BCB6-B4E03DDC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699-0071-44D6-853B-3C2EA5F6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D0E-77DA-4199-85D5-8E237A06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D22-5B79-4674-B7F7-F153FED5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ADF-A9B8-4772-8291-FD3B2683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A24-29F6-4D5D-A55A-1A4785F1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0E2-7B55-4D91-95B5-D8749D7A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F9A-149C-42C0-BB48-56CB0D5B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57F-F944-4401-A560-D1E6744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CD9D8-6AEE-457D-9347-9A558DA628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